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0FA-C189-4B3F-92BB-7ED71B8C7EDD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s Páginas de nota são páginas impressas que apresentam as notas do autor debaixo do diaposi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Este modo de visualização serve para acrescentar apontamentos sobre o conteúdo do Diapositivo. Para facilitar apresentação  ou lembrar informação a dizer á audiê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s de criar a apresentação acrescente todas as notas que lhe sejam úteis a cada diapositivo, imprima as páginas de n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C59D-A1E6-40FA-8520-884D23E694DD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F85-C0C4-4601-8359-666C4322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24B-E88A-44A3-80F6-29865EF6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37F-82E3-42D1-9619-0A8531B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F91-0120-4DDA-B2C4-048B24E4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837-144D-46C6-B4B7-C8054BC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728-077E-48B4-9171-830277F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931-C591-4BBC-8882-FC8F7B52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BC3-C309-4696-9A75-F759ABDB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5CC-A4BE-4534-980E-6713B117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025-C01E-450C-AF28-1292AC3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E91-3DA1-44A8-B38D-4CCB7BE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148-3947-4A7C-91B0-38BA7352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0755-022F-4DF1-BCC8-677CDCC3FCD2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MegaExpansão - Técnico Informático de Sis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85880" y="31428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98989"/>
                </a:solidFill>
                <a:latin typeface="Calibri"/>
              </a:rPr>
              <a:t>Utilitário Gráfico: Microsof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Century Gothic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é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dor gráfico, que permite fazer apresentações multimédia no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ção de diapositivos ( Slide S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 atractiva de comun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nimação de textos e obj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podemos fazer com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ões dinâmicas em ecr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transparências para project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diagramas poderosos e dinâ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 gráfic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temas personalizados para montar apresentações mais rapidam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ão compactada em 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um trabalho de modo  atraente e cativante ao públ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riação de uma Apresentação a partir de um tema pré-defin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28800" y="37879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a estrutura de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 esquema d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dicionar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ntroduzir 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tex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tar t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bjectivos de um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642760"/>
            <a:ext cx="7772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dentificar o Assunto d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s objectivos desse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sumir as ideias-c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lanifica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senvolve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oncluir e resumi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Regras para elaborar 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s textos apresentados não devem ser lidos pelo apresentad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lustrar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linguagem simples e objec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dados que fundamentam a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Manter unidade gráf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apresentar demasiados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usar a animação só para obter a aten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Normas para composição equilibrada do diapos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1430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ão deve apresentar ,muitas imagens, tabelas ou </a:t>
            </a:r>
            <a:r>
              <a:rPr b="0" lang="pt-PT" sz="3200" spc="-1" strike="noStrike" u="sng">
                <a:solidFill>
                  <a:srgbClr val="000000"/>
                </a:solidFill>
                <a:uFillTx/>
                <a:latin typeface="Calibri"/>
              </a:rPr>
              <a:t>blocos de textos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que encham o 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rases breves, directas, e de compreensão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tenção às gralhas ortográ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um tipo de letra de fácil lei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cores fáceis de visualiz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 composição gráfica é importante para o sucesso da noss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s estruturas pré-definidas do PowerPoint cumprem as normas para uma bo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Se apresentação for agradável esteticamente e de leitura acessível a todo o público, conseguimos cativar o público/ espectador e a nossa mensagem é transmitida com sucess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4:25:37Z</dcterms:created>
  <dc:creator>PC</dc:creator>
  <dc:description/>
  <dc:language>en-US</dc:language>
  <cp:lastModifiedBy>PC</cp:lastModifiedBy>
  <dcterms:modified xsi:type="dcterms:W3CDTF">2009-09-15T13:06:21Z</dcterms:modified>
  <cp:revision>10</cp:revision>
  <dc:subject/>
  <dc:title>MegaExpansão - Técnico Informático de Sistemas</dc:title>
</cp:coreProperties>
</file>